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646-6A4F-4107-9030-FC4CCD79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B68-0303-4CD6-B94D-C64E53F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7EA-E4AB-42AF-A0A5-3CEDB929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B26-1F00-4FAC-A0B0-B8F356D5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6BBD-3EDC-4572-9D83-8915C50E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4A8C-60B6-48EC-9872-457ECDDC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0476-D933-43DA-99E1-CB953DF2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F8EA-1809-4A01-A56A-B1C95167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EFBF-EF7A-4938-A997-EEF47CA2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228F-ACE2-4E23-8876-D2B82DF4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FF10-D095-42A7-8482-EBA97D1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D74-915B-4D1A-BE0B-E2B075AD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17D7-DFC4-4C13-9535-D1E7EFFE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4CB8-AED2-410A-83BA-492A4EC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1B57-2FBA-4732-B0A0-8CA9BD9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97E-A420-4069-A78A-F8229C36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1588-12BE-4B84-9460-A1AB9C19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743-FC4C-4EA7-9DC4-62A7324B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DA6-788C-454C-8717-38D73992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546-3B36-42C3-8FCA-C6167934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1C6-8FA7-425F-97A4-AC16BAC0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649-2580-480A-A4BB-07E9AE7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77E-0465-4122-8E1C-91C1E364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608-F42D-406C-A6ED-ABB09FC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08B6-7EBD-409E-A27F-042042B396C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D840-987C-4DCE-9107-0F64623C36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98600" y="4754520"/>
            <a:ext cx="37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Conocer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589120" cy="3457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2189160" cy="2438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07200" y="762120"/>
            <a:ext cx="550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Saber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vs.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1752480"/>
            <a:ext cx="754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é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abem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abes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abe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abe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e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im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ist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ier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375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02960" y="1752480"/>
            <a:ext cx="992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dicates to know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actual information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nformation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Yo sé el número de teléfono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2. to know how to do something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ctivity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Paco sabe jugar al fútbol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75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752480"/>
            <a:ext cx="7543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zc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em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e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e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í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im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ist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ió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ier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25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2000" y="1752480"/>
            <a:ext cx="958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dicate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o know a person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Yo conozco al Sr. Ruiz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2. to be familiar with a place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Paco conoce el parque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de atracciones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53640" y="1523880"/>
            <a:ext cx="6218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 know how to play card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co knows the Fernandez fami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ta knows the addr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tina knows the city very wel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y friends know how to do i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uisa knows the inform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63400" y="191916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Yo sé jugar a las cartas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activit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3760" y="2757600"/>
            <a:ext cx="68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Paco conoce a los Fernandez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ers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6480" y="3595680"/>
            <a:ext cx="68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arta sabe la dirección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informati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440" y="4510080"/>
            <a:ext cx="77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artina conoce la ciudad muy bien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lace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1040" y="5348160"/>
            <a:ext cx="652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is amigos saben hacerlo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activit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05920" y="618660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uisa sabe la información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informati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Jeff</cp:lastModifiedBy>
  <dcterms:modified xsi:type="dcterms:W3CDTF">2005-07-24T02:54:27Z</dcterms:modified>
  <cp:revision>17</cp:revision>
  <dc:subject/>
  <dc:title>PowerPoint Presentation</dc:title>
</cp:coreProperties>
</file>